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A23-D909-4718-9784-1C83CB7D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3AA-6AB6-4F84-9252-46D26728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10B-0B3D-4B23-A378-A4C1CC34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12F-204F-45A6-931C-FEB8F5AA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EFB-A813-4519-8705-E5B1C35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2B5-8FF5-4A3D-9178-B59E8855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E4C-05B9-4C1D-99AD-43FE437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2F2-C99C-425E-9FCD-3E37DFC1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FA2-1ED4-40D0-BD95-5400C1CD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5BF-3D08-4EF9-8261-E3456AE4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BC2-2EC7-496A-AACC-D81BB29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F23-7999-423F-B187-EE75B86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FCAE-262B-45BA-BE32-7AB80A43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8480" y="189000"/>
            <a:ext cx="554832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rmed state of Circular Bu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ffer is filled with data from previous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point of time of trigger signal from previous measu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o incoming data is sto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ffer can be read out on de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191628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651640" y="2277720"/>
            <a:ext cx="14436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5877000"/>
            <a:ext cx="5689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51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6164280"/>
            <a:ext cx="52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6093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7080" y="616572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19640" y="4076280"/>
            <a:ext cx="144360" cy="142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4292640"/>
            <a:ext cx="13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00" y="189000"/>
            <a:ext cx="7898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med Circular Bu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t t actual sample is written into buffer and moves one step (8 Byte (equal to 8ns))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995640" y="1773360"/>
            <a:ext cx="144720" cy="288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6120" y="1413000"/>
            <a:ext cx="24480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995640" y="2060280"/>
            <a:ext cx="289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877000"/>
            <a:ext cx="5689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1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09300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9300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– 256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08720" y="6453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645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6680" y="189000"/>
            <a:ext cx="3822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ircular Buffer at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 is set at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coming  data is still written into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363640" y="4005360"/>
            <a:ext cx="28764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63640" y="5877000"/>
            <a:ext cx="28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443700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4221000"/>
            <a:ext cx="21600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573408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7640" y="609300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6093000"/>
            <a:ext cx="144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652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03640" y="1844640"/>
            <a:ext cx="2879640" cy="2879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2160" y="2924280"/>
            <a:ext cx="19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B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ms @125MSa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520" y="189000"/>
            <a:ext cx="3682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ircular Buffer 128ms after trig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cquisition ha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ffer turns into unarmed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4437000"/>
            <a:ext cx="52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4221000"/>
            <a:ext cx="21600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5877000"/>
            <a:ext cx="56898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573264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7640" y="6164280"/>
            <a:ext cx="523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6093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7080" y="616572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2133720"/>
            <a:ext cx="14472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773360"/>
            <a:ext cx="131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2160" y="4941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6120" y="189000"/>
            <a:ext cx="693972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e of Circular Buffer for raw data acquisition in accelleratio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start of accelleration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end of accelleration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beginning of acquisit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= end of acquisite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quisited data can be read out random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005360"/>
            <a:ext cx="8064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7564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429000"/>
            <a:ext cx="57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350028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400536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4219560"/>
            <a:ext cx="524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221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16360" y="422100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960" y="1844640"/>
            <a:ext cx="486108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) Acquisition before and after trigger (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m signal has to come at least before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3068640"/>
            <a:ext cx="2808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92428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2924280"/>
            <a:ext cx="0" cy="93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56536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P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4005360"/>
            <a:ext cx="8064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67564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3429000"/>
            <a:ext cx="57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8360" y="350028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400536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4219560"/>
            <a:ext cx="524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4221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422100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589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960" y="333360"/>
            <a:ext cx="5673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1) Acquisition only after trigger with virtual trigg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m signal has to come at least before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 of a virtual trigger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vtri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which can be chosen by oper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PTIF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vtrig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+ 128ms is automatically calculated and sent to P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068640"/>
            <a:ext cx="2808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92428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2924280"/>
            <a:ext cx="0" cy="936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256536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P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256536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v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4005360"/>
            <a:ext cx="80643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75640" y="3860640"/>
            <a:ext cx="0" cy="287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3429000"/>
            <a:ext cx="57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50028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400536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19640" y="3860640"/>
            <a:ext cx="0" cy="28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4219560"/>
            <a:ext cx="524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221000"/>
            <a:ext cx="136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–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4221000"/>
            <a:ext cx="1297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trig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+ 128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b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342900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e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440" y="333360"/>
            <a:ext cx="74592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2) Acquisition only after trigger with delay generated inside the FP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m signal has to come at least before 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bo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perator choose trigger, which is sent directly to P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PGA gets trigger signal from PTIF and delays with 128ms (also free programm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068640"/>
            <a:ext cx="187200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2924280"/>
            <a:ext cx="0" cy="28872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2924280"/>
            <a:ext cx="0" cy="93636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16286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P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205000"/>
            <a:ext cx="936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060640"/>
            <a:ext cx="0" cy="288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2060640"/>
            <a:ext cx="0" cy="863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7120" y="27082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ay inside FP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1:28:06Z</dcterms:created>
  <dc:creator>Kevin Lang</dc:creator>
  <dc:description/>
  <dc:language>en-US</dc:language>
  <cp:lastModifiedBy>Kevin Lang</cp:lastModifiedBy>
  <dcterms:modified xsi:type="dcterms:W3CDTF">2008-09-16T17:49:42Z</dcterms:modified>
  <cp:revision>26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3798406</vt:r8>
  </property>
  <property fmtid="{D5CDD505-2E9C-101B-9397-08002B2CF9AE}" pid="3" name="_AuthorEmail">
    <vt:lpwstr>K.Lang@gsi.de</vt:lpwstr>
  </property>
  <property fmtid="{D5CDD505-2E9C-101B-9397-08002B2CF9AE}" pid="4" name="_AuthorEmailDisplayName">
    <vt:lpwstr>Lang, Kevin</vt:lpwstr>
  </property>
  <property fmtid="{D5CDD505-2E9C-101B-9397-08002B2CF9AE}" pid="5" name="_EmailSubject">
    <vt:lpwstr>Circular Buffer and FA addresses #2</vt:lpwstr>
  </property>
</Properties>
</file>